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24F2-207D-4A39-8F3B-CAD54E2DD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1F40-09F3-41BC-92C9-5B0C1FAFB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F09-94D2-4D08-93A7-8B4994B7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807D-EE98-47F7-BA09-87AB1EB6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0200-477B-4565-BCF1-B996FD6B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AD75-7DAC-44FC-A4C5-B13914BE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70CF-849F-404A-88C1-56902FF6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CD1-C6CA-4FEC-B64F-E9E02528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F96A-FE8A-4B9C-9CC8-DB114A87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938B-AC2F-43E4-BBDC-E11DB4EE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4771-DD00-4BFB-9BE1-80080E0D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CAC3-486F-4013-8FC8-8F26FFBA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503-995F-4035-8945-3E317193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F08C-256C-4B45-ABE0-BF7419CA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1683-4E50-4454-ACB4-9E7E559E4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5 – India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DY HERNAND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C:\Documents and Settings\ISLPT012\Local Settings\Temporary Internet Files\Content.IE5\QSFVSSJZ\MC900018796[1].wmf"/>
          <p:cNvPicPr/>
          <p:nvPr/>
        </p:nvPicPr>
        <p:blipFill>
          <a:blip r:embed="rId1"/>
          <a:stretch/>
        </p:blipFill>
        <p:spPr>
          <a:xfrm>
            <a:off x="5867280" y="1295280"/>
            <a:ext cx="1665360" cy="1292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Documents and Settings\ISLPT012\Local Settings\Temporary Internet Files\Content.IE5\A2CO1HDT\MC900129137[1].wmf"/>
          <p:cNvPicPr/>
          <p:nvPr/>
        </p:nvPicPr>
        <p:blipFill>
          <a:blip r:embed="rId2"/>
          <a:stretch/>
        </p:blipFill>
        <p:spPr>
          <a:xfrm>
            <a:off x="457200" y="2362320"/>
            <a:ext cx="4670280" cy="395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Documents and Settings\ISLPT012\Local Settings\Temporary Internet Files\Content.IE5\SKSTG7QT\MC900054475[1].wmf"/>
          <p:cNvPicPr/>
          <p:nvPr/>
        </p:nvPicPr>
        <p:blipFill>
          <a:blip r:embed="rId3"/>
          <a:stretch/>
        </p:blipFill>
        <p:spPr>
          <a:xfrm>
            <a:off x="5715000" y="3276720"/>
            <a:ext cx="274320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zo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uddhist center  of prayer and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52560" y="-504720"/>
            <a:ext cx="15523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http://t0.gstatic.com/images?q=tbn:ANd9GcSjMISXEUV4rNcbGKE4MsD18sKspP5KUSvLgeKDxOPXXz7eAFKyCw"/>
          <p:cNvPicPr/>
          <p:nvPr/>
        </p:nvPicPr>
        <p:blipFill>
          <a:blip r:embed="rId1"/>
          <a:stretch/>
        </p:blipFill>
        <p:spPr>
          <a:xfrm>
            <a:off x="2438280" y="152388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s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easonal wind that blows for months at a time, affecting the clim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http://t3.gstatic.com/images?q=tbn:ANd9GcQ1qeQbMHdkaiBrOtTOOYouePHaDNb6d_lNttB0zLcf4eFm0WWC"/>
          <p:cNvPicPr/>
          <p:nvPr/>
        </p:nvPicPr>
        <p:blipFill>
          <a:blip r:embed="rId1"/>
          <a:stretch/>
        </p:blipFill>
        <p:spPr>
          <a:xfrm>
            <a:off x="2438280" y="2209680"/>
            <a:ext cx="411480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lant fiber used for making rope, burlap bag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http://t0.gstatic.com/images?q=tbn:ANd9GcSgKK_dNELqt6IG5_nmhLiWiGpo7on0MNb_NVkmxpu_S1gw6gZh"/>
          <p:cNvPicPr/>
          <p:nvPr/>
        </p:nvPicPr>
        <p:blipFill>
          <a:blip r:embed="rId1"/>
          <a:stretch/>
        </p:blipFill>
        <p:spPr>
          <a:xfrm>
            <a:off x="609480" y="1447920"/>
            <a:ext cx="3124440" cy="4095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://t0.gstatic.com/images?q=tbn:ANd9GcQS2GIafo43WiI1yOkneW_c9IfdDJs_XHuI-wvKTbIMtUh8gVZi"/>
          <p:cNvPicPr/>
          <p:nvPr/>
        </p:nvPicPr>
        <p:blipFill>
          <a:blip r:embed="rId2"/>
          <a:stretch/>
        </p:blipFill>
        <p:spPr>
          <a:xfrm>
            <a:off x="5486400" y="1676520"/>
            <a:ext cx="23623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ttage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ome or village based industry where family members make their own goo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http://t3.gstatic.com/images?q=tbn:ANd9GcSRVnd7Ruai4TF6nuDBK8dNd3q4VQCTAei2PFyaHVO9C8YN9PUY"/>
          <p:cNvPicPr/>
          <p:nvPr/>
        </p:nvPicPr>
        <p:blipFill>
          <a:blip r:embed="rId1"/>
          <a:stretch/>
        </p:blipFill>
        <p:spPr>
          <a:xfrm>
            <a:off x="2209680" y="1828800"/>
            <a:ext cx="50292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social class that is based on your ances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http://t3.gstatic.com/images?q=tbn:ANd9GcTRFvAlolGH1CXoAWNenubMUqcm98m5haJkujXfMoUyzWiVbz_Y4A"/>
          <p:cNvPicPr/>
          <p:nvPr/>
        </p:nvPicPr>
        <p:blipFill>
          <a:blip r:embed="rId1"/>
          <a:stretch/>
        </p:blipFill>
        <p:spPr>
          <a:xfrm>
            <a:off x="2438280" y="1523880"/>
            <a:ext cx="419112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incar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lief in the re-birth of a person’s soul in a new body after dea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http://t2.gstatic.com/images?q=tbn:ANd9GcQVzhkLBMmE94xj7_WlNqqG-gDpLlaqf8LU0htN_KJ_w30KMaGMGw"/>
          <p:cNvPicPr/>
          <p:nvPr/>
        </p:nvPicPr>
        <p:blipFill>
          <a:blip r:embed="rId1"/>
          <a:stretch/>
        </p:blipFill>
        <p:spPr>
          <a:xfrm>
            <a:off x="3048120" y="1752480"/>
            <a:ext cx="32004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tense storm system with heavy rain and high wi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http://t0.gstatic.com/images?q=tbn:ANd9GcQBpakseuvjekd3t7RI1WDLnOUPEnrqdUtb8_P6inRmA2R57Xj1QQ"/>
          <p:cNvPicPr/>
          <p:nvPr/>
        </p:nvPicPr>
        <p:blipFill>
          <a:blip r:embed="rId1"/>
          <a:stretch/>
        </p:blipFill>
        <p:spPr>
          <a:xfrm>
            <a:off x="2057400" y="1676520"/>
            <a:ext cx="54878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stic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ful chemicals that will kill crops-destroying ins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http://t0.gstatic.com/images?q=tbn:ANd9GcSTPVe6MfqyjgyovDdxB0ohX5MDRcJIFCEJ73VRuKfhGFqe_Wc2"/>
          <p:cNvPicPr/>
          <p:nvPr/>
        </p:nvPicPr>
        <p:blipFill>
          <a:blip r:embed="rId1"/>
          <a:stretch/>
        </p:blipFill>
        <p:spPr>
          <a:xfrm>
            <a:off x="2209680" y="1600200"/>
            <a:ext cx="49532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45:15Z</dcterms:created>
  <dc:creator>poweruser</dc:creator>
  <dc:description/>
  <dc:language>en-US</dc:language>
  <cp:lastModifiedBy>BHISD</cp:lastModifiedBy>
  <dcterms:modified xsi:type="dcterms:W3CDTF">2011-12-09T13:55:47Z</dcterms:modified>
  <cp:revision>9</cp:revision>
  <dc:subject/>
  <dc:title>Chapter 5 – India Vocabulary</dc:title>
</cp:coreProperties>
</file>